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F3B-B7E0-41E2-88FD-391D31E6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F9C-0DC1-4870-B4C8-2EB74947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F0D-4BF8-4D23-A2F0-38D425FE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19E-1C24-423B-84DF-83181523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6CC-C4A6-414A-BC97-558F3957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3AE-54C2-4089-ADE2-2710F9C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62E-4B42-4588-BE64-F4324E4C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BD9-8B42-43BE-9E46-4D212F91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D4E-80CE-47F5-8282-00BE57FA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2B4-95CD-4AC2-BAF7-5ED5B833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696-9D78-4528-A381-4544CC1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851-6B93-48AC-85EC-DBFB8BD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D086-FA6B-4AA9-A822-79BB6A28C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eb.mit.edu/invent/iow/christiansen.html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0" y="6216480"/>
            <a:ext cx="56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shed Pota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71600" y="228600"/>
            <a:ext cx="6095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EG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48769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2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hristiansen"/>
          <p:cNvPicPr/>
          <p:nvPr/>
        </p:nvPicPr>
        <p:blipFill>
          <a:blip r:embed="rId2"/>
          <a:stretch/>
        </p:blipFill>
        <p:spPr>
          <a:xfrm>
            <a:off x="0" y="0"/>
            <a:ext cx="2557440" cy="396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4038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e Kirk Christensen Invented the LEGO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3910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le Kirk Christense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0, 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hristian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hristiansen"/>
          <p:cNvPicPr/>
          <p:nvPr/>
        </p:nvPicPr>
        <p:blipFill>
          <a:blip r:embed="rId4"/>
          <a:srcRect l="34845" t="0" r="0" b="0"/>
          <a:stretch/>
        </p:blipFill>
        <p:spPr>
          <a:xfrm>
            <a:off x="4114800" y="762120"/>
            <a:ext cx="38480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Ole Kirk Christians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rk set up his business in 19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s and building blocks were one of the most successful projects in their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4 his factory burned down, It was rebuilt in 1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sen's son started working with his dad in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2 he died. His son took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LEGO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4 the world Lego was adopted the name of the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” means “I put together” In L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53 Lego started marketing complete plastic block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Lego sets were sold in the United States in 19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has sold sales totaling over $1.5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3:08:02Z</dcterms:created>
  <dc:creator>install</dc:creator>
  <dc:description/>
  <dc:language>en-US</dc:language>
  <cp:lastModifiedBy>install</cp:lastModifiedBy>
  <dcterms:modified xsi:type="dcterms:W3CDTF">2010-05-12T13:29:52Z</dcterms:modified>
  <cp:revision>6</cp:revision>
  <dc:subject/>
  <dc:title>Slide 1</dc:title>
</cp:coreProperties>
</file>